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F57-6820-4005-89C4-423D9E60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764-528D-4D15-94C3-BAC90949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FE1A8-7BE6-444C-88F1-34877C3B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F93E3-674D-4DD9-AAE6-EF375020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6935C-E41B-4077-8AAD-91A032C5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B1E4D-8B02-4BC7-8B51-0806F16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802B3-D78A-4271-A13F-6C1DAC3F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AFA74-B91A-44A6-91FC-0D0B8E98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F5A3F-7B4B-46DD-8209-CC8DA179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91944-CB46-4F06-A54C-48A39355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21D69-B225-407D-B91B-F092995B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7D287-5294-4589-B9C4-CFDC2C59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503-DA1C-4666-8A40-FFD21EB4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16BCD-21AD-4139-90CA-0BD902B4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43FE7-23B7-4259-835C-7F499347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0FBAE-9092-4E66-8BD4-F0174C39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E0167-70EC-4CFD-9D92-0EF0B095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DFA77-8124-4FD9-8B50-DA0BEEA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72A50-D8A7-4B82-9BE1-EACD0088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11AFB-F745-4F4C-96C5-9E7FE7F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0BB00-D0B2-4A3A-8A36-2E3F23D8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C6196-69AC-4AF3-B705-33B9B151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7883D-6437-47A8-9FA7-83982D19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658-7DFA-4A22-BEC3-E42A661B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C7FCC-A25E-4488-84CA-BCE84EEA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5E85C-1E6D-43A8-B4C0-11B8F888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FCC61-8EC6-4EFC-8510-FC9CE888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406A2-A139-44EC-B2A0-0D351E0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0EE72-A62A-40AE-A8BF-91E96BDB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831F8-ABED-4EE0-AABA-A813E723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2C74B-34FA-4476-BD40-A4E0036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F6241-6EE6-4AC0-B88B-133A738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7D762-E2D4-4F60-B0CE-AC7EACE9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A2AC8-8B7C-4EEC-A854-0015189C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D47A-01F2-4C8A-8A8C-C74C4954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95FFD-7116-4C8A-9143-7D258906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5AFCC-687B-426A-94A5-DB2BB81E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676E1-3E17-4161-8CFD-956A5EE7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7B1B1-BB1C-47BE-8791-3E7B0F54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8D5F3-E18B-47C2-85D1-103BDFAE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7772A-0CD9-4341-AE64-71D73F7B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32D1B-1FF7-4103-8F3A-1B918913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68B9F-304C-4C3F-9DB0-802186D3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E2A3C-5C48-445E-B1BB-BC1E3B90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50C8D-DE92-466D-83CF-E96EDDA9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3126-4201-4E0F-B3F6-F505586C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1116F-4A5F-419D-AFB5-510AFA1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1FF73-A1A2-4217-BDD0-F7CF173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E202B-D4CD-4110-B2C3-2666BC25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05ED9-A0F0-4F39-8F42-C71663D0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5E270-EE71-4546-B9B8-80F91C48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DF06D-00F6-45FC-808F-3E0EBAE6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766D4-3CA6-4AB9-8BA8-3361CBFB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FFE38-7A8A-4182-AE86-66CD639C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98F36-E5AC-439E-AA77-799D21F9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EB43C-5D4D-4575-9D0D-06638053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A410-01EF-445C-8788-8474EBC8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A6B87-5256-476D-BD9B-86732CF1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11A6C-A2DD-4695-955A-A2E0186E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D0EFD-EEB2-4FA9-95A6-B11E37A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44BA7-6D96-4912-9CDF-FBAB5E8C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E86FD-431A-4068-8416-B387F91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B8E33-212F-4049-89D6-CF3489E0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4E906-FB68-4F88-B1A8-3105AD68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E0027-C3CA-41FC-AA63-BE7CA741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7F2D1-D4D0-43DB-A2E1-B20CB65E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E1B9C-59B1-4DA2-A65A-7DBD1539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E8F4-8153-44B6-A5F4-7B25267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F0848-83E4-4BC7-974B-9729D8C6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E3666-2C83-4FDD-AD59-49790E89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3D787-776F-429A-A6AD-8A98116B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2AF0A-3CAE-41D9-8BEA-3A881443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67F31-05CC-4A3B-A7A8-C138924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DBD99-2F56-469C-9243-FD05A6E6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45881-B468-4A8E-A7B2-42C9408B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E3149-3012-43A5-8AF6-EED2D934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60583-96B9-47D9-9CBC-9B8EC67F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136C3-5A4C-4829-B0DD-D742470C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DA55-C0A3-4E17-BE5E-A7A837D0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52F8F-37FB-481A-8A9A-4613BFD6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94E97-8BBD-48DB-9823-4568D6E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8D33B-C28D-430E-80A1-942C0E5C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8B3698-557A-468A-8EDB-1DD9CB0E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FF458-AAEE-47F2-9865-6D381AE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DDDA9-2906-4FE7-8150-53C3B51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462CA-3B67-4116-BA82-AEF09E5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9DFB7-2557-4C6C-888F-20605D73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0633D-06C3-45D3-9D8F-3603BF9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62DA5-C202-449C-BD41-F79B5ABE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9BDE-C1B8-4157-9E6C-C4278F53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49922-C561-4704-9885-8D36FBE3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B8638-8B88-43D2-809C-35E2DEC8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902A7-27D5-4C4B-9D02-1BEF411F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F3084-52CA-4D86-AEB5-F5EE4FA1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7B81F-4B77-4D51-8898-D3DEF4F4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B6638-50EE-45F3-868A-4C78EBD9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A2F89-3860-45B1-B60C-0FB32070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26492-60F8-4F29-827D-4E93C17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B59D7-A4A1-4C11-AF63-60CD2D4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089A3-A033-4916-9527-1D6A5036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0C4A-8E56-4D52-BA24-D4D92AF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01CF6-B31A-43D3-983C-C0402590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98F13-1F89-4309-93ED-775B341F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D7C17A-BAA8-42F2-B0A8-31FC5CCC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7B659-383B-4E1C-88D6-800EA37A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F65F5-CC08-4366-9149-2BF072C5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97C50-6EEF-4D01-A24B-F1DE73A1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35CAE-7714-4CCA-9AF7-8A3CB82E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317609-252D-4404-BE41-6F61F1A9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12693-1C18-4C2A-8370-0C680D08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00E11-0DCC-47D2-9EC9-2A783DE0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52F-3AA8-4582-B434-34180F13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75B4-8B45-4C22-A146-834E896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C9C0D-5567-49F7-B079-2DDB6A61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097AC-497E-4CFC-98E9-C07C6C4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7F45B-5D62-49B1-9CA0-E16D1257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5AAC1-6619-4075-AC8A-63D7E4E6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105F7-6164-4D67-B4B8-EDD1FF6E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A8B13-6802-4D85-B2A9-DF1D3419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1CAAA-FEFA-4E79-A49A-B238AE2C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A1F67-129D-4C06-A52D-64A060A3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5444D-34E4-41F3-BEC2-590AC3FF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A32542-F406-4550-8E71-76CCF709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5562-01F9-4B7D-874D-89388940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521F9-49A7-4831-840C-CABF1406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01932-D491-471F-B20A-76FC53F9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0322F-0DB2-4F82-A40C-ACB58085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B4EDD-9724-4C8F-A4CE-6A273F5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BF700-119A-4ABE-85E9-D009535A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D2982-781A-4386-8E4B-5AC59456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8F58C8-68AD-4075-B85F-669D9436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ABBAC6-BD60-4A4A-8D19-92CDD36E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4A663-95CA-4A5D-912E-F4DAE4AE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1328F-AC00-4289-8F19-8892831D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58BC-FCB0-4EDB-819C-846883A1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1BCB5-7AD2-40AC-880C-78860DE5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F63FC3-824D-4AEF-85CF-E864719B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5C20C-6196-4957-B01B-0EFB08C9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A2A2F-AFA8-4B32-AE83-53C98321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7CB65-6807-43C5-9F2E-91343BA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BBDFA-AA3A-401A-98A3-01C6F37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5CEAF5-1C9D-4812-A7D7-61297FAF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25283-81A4-47BA-94DD-724F323E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C7FAE-FF16-4684-8C1F-BE54937F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CEAD6-22C9-42E3-AA48-233647A1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05F4-80E4-42E8-9A6C-09388F19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981ED-015D-48D6-A48A-D9B7349D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FC4536-E41A-4EF0-A1F1-6715AFEF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B8A31-F5BE-47DE-BFBD-60CC3A10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AF7AF-F3FF-4330-801C-99CD86AB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3E404D-8040-47FB-B1C8-1D8F45D9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41C3C-9846-40B6-82A5-A58BD2BF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CC910-2788-49F8-9996-50C352DA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4CBFE-7CC8-43DA-866C-00CB476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8E15E-9959-4C4A-BB79-4AAB9956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9B60B8-879A-4865-990D-58EFC782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624C-FCD5-4712-96A5-B0E42595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5BF95-F02D-43D6-A779-3BF138A0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D0478C-20DC-40C0-9F35-18ED721B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F0259-7F31-4872-885C-55F8B371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9589E-7550-48A0-BCF4-360305B0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C8593-F1EA-441A-B6B9-BE6751B4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3A7100-3722-45F3-94CB-F9259BC6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FB6983-43D0-47BF-8634-51D63FDE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0A184-0B3D-4A63-BED0-B994104B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FD61F5-C58D-4621-9B37-34B9967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872C04-3F2E-4A26-B452-F981FFB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9801-E7E0-49F0-B288-8D1E0349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290C0-1BE9-4878-B245-44754826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4BED8-14FD-4CD7-A213-ED91F8D9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15164-5B5C-4B27-B34D-64E288A4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3047-6993-4199-BA67-37778513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53A1-5943-41F0-8F87-99E2ADBC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6A32-CCE0-4CBA-9C5A-8D02C6FE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B225-53D2-48D3-957B-4465F21E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78B-3285-4FED-9C42-CD56CA9D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C7FD-3A8B-43BB-8226-2C621806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EE0A-7D9A-4427-9BA1-A28B32BA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DFE9-A65B-43AB-ABFE-9AF389D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2158F-F351-4D36-B14A-05A30F83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1FF0-1D2D-45A7-AAC0-F895777B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B7E6-B7BB-4C59-B029-FC67E2D5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1994-C1EC-403C-BD1B-7477B9AE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7BEB-EC05-41CD-BD81-7CB6C092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EF98-93B4-46B1-BF15-CD657C61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D129A-66C7-47D4-BA66-3BAE8610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4B8-F67F-456A-96D9-8F8E9832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D0959-12B3-4EB6-A30A-93450A1F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6E1E-0A06-4CD6-B618-2083BBB1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5DCAB-3ACE-43CF-B52A-D1F7EF66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4244-1D88-4EB6-BE76-C4249FF2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914E-1069-43FE-A23D-AF2D332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0584-659E-432E-87B5-9D2508BE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D6B1-2D9E-4FE3-AC2E-75F3D97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B8E7-DDC4-492E-BC2E-F339B3CC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754E-E693-4EF8-807B-EBD37EB6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9C90E-DEAC-48E2-9812-ED007D41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8DC-0FB9-4C58-A613-75C8891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D704-6E93-43AE-8AB8-A5B7129F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2D0E8-7479-4FD7-9314-964D6EE2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9A05B-1544-43F7-AC0F-01A030AB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C4DA8-6014-453C-AF7C-7F325E6D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5D07-BD3D-4211-B1CC-210FF3D6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AED5-219A-4062-BFF3-46E409A1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395BC-2FB8-4E70-B253-F3086664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0C525-686F-400E-86E3-DA18E24C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10BE-3C93-493D-BBF3-338423FA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0A06C-C95A-45C1-962B-B36E81B9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C4A-F707-432D-928F-BAEDB20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D1BDD-AC9C-4509-AAA7-6D208846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59E89-BBA3-44F5-B574-29971CA2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1C17F-22AE-4653-BF83-D055F5AE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EDF8C-8730-4FC3-8B27-6D119C46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78164-399A-4571-B9B1-823DCFFC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2530E-AB99-4B62-93CE-894611DB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883A1-D2AE-4591-B198-FC285F23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608CB-0721-42F2-A440-1C7C0D9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7CE6F-F826-4FCE-BED3-4767B2A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E8889-317F-4C25-AEFC-3027D105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D3F-D0B6-4ED1-B80C-E2E7A03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4EFA0-8D34-4864-B2EB-EAE696CB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FEF1F-CBDB-422A-921A-C3BAE47D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584B0-57FA-44A9-BFA0-D069DAAC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8CE47-E191-4D48-B649-A90EAEE8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02695-E74B-4A28-9AE0-514C926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311DC-7883-43E5-9C9B-E0ACEA64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1B921-B34B-4CEF-BA02-8FBF50D3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8A73F-D2FF-4C09-A1AF-E631284A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7143A-9811-4B76-A0D5-FA0FA7DC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98FB-E88F-493B-A2A2-AE12D7AB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440-6C2B-463F-8A24-EE72893D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DF8A0-6BB2-4BE1-8483-6792DBE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712D7-E655-4775-82A6-040E8241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3778E-099C-4BC2-AF08-0EEE5D88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1D4D-E13C-415E-971E-7C6373B0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0F088-68CA-4383-8571-556AF659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1EAD6-4432-4758-83D9-E18A785E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EAABF-FEEB-4762-A7DB-24B6914D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68A7D-BA83-442B-9A13-2FE6F61D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90392-800C-4644-869C-83B859DC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3F26-7159-4977-9C48-09F7B8BB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A7B-98A2-44A9-B5E2-82A2A09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C00AA-60CB-4020-9FED-6D9791EA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3C6C0-7B72-4809-9BE3-D526008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486D2-5665-4B68-84F3-87EF643A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06C60-93A1-4FE4-82E9-4ED4FC62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4D503-637B-4B93-A977-E6C56C4C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2A083-EFC7-49B6-8067-DD47F9FE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28154-BCC6-4D18-8A37-4F046DC7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B4DF2-69FB-4DC6-B6EE-BF80AE79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BA02B-65AA-441A-A6A5-974B2B37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C0F06-5A7E-47B4-BE8D-E63EC48B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097F-CE8E-4299-9DAC-188396C6D5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D76-8929-4559-A4B8-0D0F7C9764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3E6A-4856-40BC-B8DD-FBE0415EC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E454-7BE1-4B93-884C-0ECA45F70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36BE-B59C-4D34-B1B1-34F722DCAD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B966-D668-46F5-826D-9297FE7B18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0827-ABFC-4FEC-B6CC-1718340C0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CAF1-1777-4A06-8620-EA9DBC4B9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10CD-B25C-4979-BD01-C6A8D3334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1B2E-D33D-4B37-8463-FB6E4CC1C3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235C-0929-4B42-86A1-D96E4F7EB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2582-82AF-4D4B-9F5E-3A433A027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2ACA-B91E-46E1-82F8-4EBDD09E96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95F8-3107-49E8-B737-38D89D6D7C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D7E8-9347-44FF-9DB0-EBCE20881E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BB28-7931-4CF2-91FB-CAFDA4B85B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B914-11E8-4FB1-8B57-88673B5759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18BD-AEB8-4A2B-A9AD-7C8D0E6B8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2C5E-CB40-4A7B-AB45-D48531C3F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B686-925F-48BF-A089-334CF61FD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972F-0722-4116-8608-2AFA04116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3364-FC85-420F-AB63-0002033ABB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8923-2638-4398-9351-C489A36D35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6FF7-1EFF-48AD-A037-284BDEFDD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6559-FC3B-41A1-BD4B-D3406C8598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99AC-D3B5-48FF-9339-057B31095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D6B5-F04B-48A9-8E9B-1F3513C09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71A1-4D6D-4D91-AE68-ACBD7FEFE7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E87F-FC6E-4C50-86A3-2A36D6BDE8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E7E9-2187-40E2-99EF-32342BCB0B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66A4-A62D-452E-BBF0-D20FFD34B4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B5F2-7D4A-4B26-B3DD-B99939A27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347E-90AC-42C6-9CD1-B02354B9C2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C0BE-CB99-4441-9E96-E2251DD677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DB0D-1760-4167-9524-8AF4116523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1DD6-8724-4C04-B123-3B1B04D918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3A8F-7868-4F58-B8BA-AF521764A3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E0F6-51A1-45F1-8E33-E7EDA6063F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79CF-2B56-461E-A1AD-BCBF16BEFF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AA46-751F-4494-8E7B-2564999A0B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90680" y="2728800"/>
            <a:ext cx="6362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2920" y="1380960"/>
            <a:ext cx="8858160" cy="4096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332000" y="361152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995640" y="361620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516720" y="360684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782720" y="52293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149720" y="5210280"/>
            <a:ext cx="792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138240" y="1852560"/>
            <a:ext cx="8867520" cy="315288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59411" descr=""/>
          <p:cNvPicPr/>
          <p:nvPr/>
        </p:nvPicPr>
        <p:blipFill>
          <a:blip r:embed="rId2"/>
          <a:stretch/>
        </p:blipFill>
        <p:spPr>
          <a:xfrm>
            <a:off x="1319040" y="2490840"/>
            <a:ext cx="67914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119160" y="1424160"/>
            <a:ext cx="8905680" cy="40096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900000" y="3952800"/>
            <a:ext cx="93528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3419640" y="3943440"/>
            <a:ext cx="9349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5867280" y="3962520"/>
            <a:ext cx="9352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395280" y="4979880"/>
            <a:ext cx="453708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8459640" y="220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8459640" y="2565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8459640" y="2924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9"/>
          <a:stretch/>
        </p:blipFill>
        <p:spPr>
          <a:xfrm>
            <a:off x="8459640" y="3303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0"/>
          <a:stretch/>
        </p:blipFill>
        <p:spPr>
          <a:xfrm>
            <a:off x="8594640" y="3654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1"/>
          <a:stretch/>
        </p:blipFill>
        <p:spPr>
          <a:xfrm>
            <a:off x="8585280" y="40147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2"/>
          <a:stretch/>
        </p:blipFill>
        <p:spPr>
          <a:xfrm>
            <a:off x="8585280" y="4384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3"/>
          <a:stretch/>
        </p:blipFill>
        <p:spPr>
          <a:xfrm>
            <a:off x="8594640" y="4743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4"/>
          <a:stretch/>
        </p:blipFill>
        <p:spPr>
          <a:xfrm>
            <a:off x="8585280" y="510372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5:0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